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4C8-D309-4723-95F0-82952162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007-FF43-4744-A6ED-8B4C0A4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5AF-ACB2-447D-99DA-E4593638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170-41D4-472B-B3FC-B697AA34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CD7-17D6-4208-8E55-65178ED7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F45-373D-4E9B-8E79-1C25F0B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534-8CA3-4D71-ABBC-1DC30D9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AA8-B357-4474-986C-17D3359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A7E-1098-4967-B5F2-8B154AD4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102-46B8-4A67-9521-5A6E16E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812-529A-4EDE-9D2C-DC3D94D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D9C-5174-4BC2-90F6-8917C88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373-423F-4324-9833-066B5338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56:40Z</dcterms:created>
  <dc:creator>Grupo Editorial</dc:creator>
  <dc:description/>
  <dc:language>en-US</dc:language>
  <cp:lastModifiedBy>Grupo Editorial</cp:lastModifiedBy>
  <dcterms:modified xsi:type="dcterms:W3CDTF">2001-11-20T16:00:45Z</dcterms:modified>
  <cp:revision>1</cp:revision>
  <dc:subject/>
  <dc:title>Sin título de diapositiva</dc:title>
</cp:coreProperties>
</file>